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50CA-3313-46CC-8B01-EE3DB025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6133-28E9-4AAC-9668-02A31C60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BC73-640D-436C-9FA9-22F33A66A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DC76-5833-4D49-94D0-8F73D471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E796-0DA5-4BF2-A831-524AC21A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7C85-7D24-4635-A15D-EC7096FF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9F33-46CD-4088-9F69-003AE043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3795-C218-4F57-AD0F-1C691BF2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B91F-8E5A-4C30-ADE0-6F797A7E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732B-C5EC-4516-8F1F-33433BCE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6DF5-22DB-417A-A5C0-E0AEE819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00EA-FB3F-481E-AB13-02F808AA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1AA6-9735-458A-9094-864BFDE7587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hez.com/lafamillesimpson/pagefamilyimages.htm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a famille Simp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Images de la famille Simps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64000" y="4005360"/>
            <a:ext cx="2162160" cy="1685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481120" y="4208400"/>
            <a:ext cx="1176480" cy="262080"/>
          </a:xfrm>
          <a:custGeom>
            <a:avLst/>
            <a:gdLst/>
            <a:ahLst/>
            <a:rect l="l" t="t" r="r" b="b"/>
            <a:pathLst>
              <a:path w="741" h="165">
                <a:moveTo>
                  <a:pt x="0" y="0"/>
                </a:moveTo>
                <a:lnTo>
                  <a:pt x="741" y="165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4024440"/>
            <a:ext cx="11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4355640" y="3573360"/>
            <a:ext cx="79236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27480" y="3448080"/>
            <a:ext cx="81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787640" y="4365720"/>
            <a:ext cx="143964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80200" y="4097160"/>
            <a:ext cx="81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292720" y="4724280"/>
            <a:ext cx="1440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11840" y="4529160"/>
            <a:ext cx="81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651280" y="5229360"/>
            <a:ext cx="64908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80200" y="5176800"/>
            <a:ext cx="81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gg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8388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28844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Voici Hom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’est le père de Bart, Lisa et Maggi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l est stup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57520" y="3005280"/>
            <a:ext cx="1438200" cy="1714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67564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3625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Voici marg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’est la mère de Bart, Maggie et Li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lle est série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2808360" cy="4033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596360" y="692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41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02 0.033 -0.05872 0.058 -0.05872 C 0.095 -0.05872 0.125 -0.02269 0.125 0.02269 C 0.125 0.03737 0.122 0.05071 0.116 0.06272 C 0.117 0.06272 0 0.24289 0 0.24423 C 0 0.24289 -0.117 0.06272 -0.116 0.06272 C -0.122 0.05071 -0.125 0.03737 -0.125 0.02269 C -0.125 -0.02269 -0.095 -0.05872 -0.057 -0.05872 C -0.033 -0.05872 -0.012 -0.02402 0 0 Z">
                                      <p:cBhvr>
                                        <p:cTn id="97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Voici Ba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’est le fils de Marge et de Hom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’est le frère de Lisa et de maggi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l est amus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3168720" cy="3529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16436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514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Voici Lis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’est la fille de Homer et de Mar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’est la soeur de Bart et de Maggi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lle est musicien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2592720" cy="3240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3824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Voici magg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’est la fille de Homer et de Mar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’est la soeur de Bart et de Li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lle est cal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90720" y="1773360"/>
            <a:ext cx="2933640" cy="3960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020000" y="83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1102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Voici Abrah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’est le père de Ho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’est le grand-père de Bart, Lisa et Magg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l est vie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2808360" cy="3241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324160" y="3710160"/>
            <a:ext cx="304920" cy="1504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254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21:18:24Z</dcterms:created>
  <dc:creator>Perkins</dc:creator>
  <dc:description/>
  <dc:language>en-US</dc:language>
  <cp:lastModifiedBy>Ministry of Education</cp:lastModifiedBy>
  <dcterms:modified xsi:type="dcterms:W3CDTF">2009-05-18T23:44:51Z</dcterms:modified>
  <cp:revision>7</cp:revision>
  <dc:subject/>
  <dc:title>La famille Simpson</dc:title>
</cp:coreProperties>
</file>